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dt" idx="5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9FC2A-91E4-432A-ABC1-85126DAB2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62CAF-DBF1-47EB-9A4F-62AF83B32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D77C8-197A-46C7-AA6E-A6B19B32D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37F97-F23B-4143-843E-96D7F3EFE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123C7-B738-4BFB-868E-4036949E6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0D84E-39FF-49F6-AB42-EF32C76D4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2B0F1-EB30-41F8-93F0-5151B282C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0D7C6-AA8A-40C0-AD18-10D6B8B6A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FF307-8EFF-4E11-BF3A-28E80277A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C3B57-4041-4BEF-9931-DBAD839C7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8A496-E150-4223-AD6A-1B51E193F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39F6A-39B7-46F9-87F3-6867A9C50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3F976-81AE-4A7D-85B1-7B28EE464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1A54C-1FE2-4EC6-9271-E68E04D70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077D4-6B95-48CC-A942-3F47FB091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A4A63-80F6-4EF5-910A-070B7F4AF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77FCA-CB55-45F1-A3A1-5CA3C4977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1E549-1E6D-4DB1-9DCA-486B91B27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BD6C2-B235-4168-AC77-1BC999F24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BD743-CFC5-4F97-A6D5-6B172E10C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EB95A-3A55-48F5-A030-D539DE524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ABE36-02FE-4811-B2BB-7CACEE838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B6C37-27F0-4A4E-8689-2B1694152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2442F-1983-4A17-AC5A-77C2F4185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4FF87-6528-4727-9D59-7D35EE3EC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1AD4C-EB5C-4C1C-8096-CB3A1BE82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361CF-750D-48FD-B230-6B1B54EC2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C638F-7DA1-4870-A511-340D83ACA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80B19-DB72-477E-B2D3-E057B4FB0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D7F10-1A01-4A92-8A55-F79A4AE28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A9306-F229-4364-AC1B-394E8E5F7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57ADC-A63A-4450-9E64-E84535E9D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60042-46C2-40B6-8FCC-10B9E9B0B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AABCE-9375-4D23-B9FF-BB2EADDDD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49E2D-F240-48BD-9D67-563DEE8DA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152E8-4C6B-418A-B51E-A49111EC3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6980B-DDB5-4293-97CF-3910C512F6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AD6A0-79AC-42CC-827B-3D67D16B95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D0317-8F7B-4C41-8880-CEEA30954B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70826-93BF-4212-B4C0-967C2C8135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BC7FE-79CD-4644-BA7C-3FCFBABD0C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0F3C2-20E0-4C21-B73E-E24F4BE3AF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340AA-48DF-4B3A-960D-ACE1DE0808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AA802-A551-4970-82E0-6E4755DD3F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82892-1463-4DD3-88F6-E2526848BD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C5583-CA2F-419F-A32E-CBCC4C911E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64C88-806C-4399-A823-F52E13F8DF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F4260-E570-4CDE-B93B-E6EB64CEE0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2F34F-8186-4B6C-8DB6-566B4B33A2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41D83-14DF-4C21-8F8A-7D5052C54E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01A1D-135F-4B2F-8661-EADA853151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F5EEF-16DA-4C30-AD1D-1A106A5D20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FE036-A72E-4876-9A44-3DE83B9BC67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C931-D661-4E3A-98D7-A8898CA3BE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2E29-E891-4AA6-A41E-FA9BABB081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03FE-60EB-4D9B-93E2-761E26BDE42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4075-A235-4529-8B44-5E4CE4FC30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1F21-682E-45B7-BF12-8DB9BB1D28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A145A-B280-4263-9008-95A213C7907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CDDE-68A2-48B8-8970-45FBA7A5D89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137A-DAD5-4A78-A124-A1F0D22C075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4E3C-E80D-43F9-9277-BEA3589AFF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4DEB-C71D-4D97-BF6B-61B1C2FD934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7B5D-845A-4C81-8F51-96776558B85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C44A-CBED-45E4-A4FC-CB8D98EC51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3724-7657-46EC-A1EE-FF594533793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375E6-CAEE-4376-8E09-13CD7CD4435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711C0-ADDD-47BC-A122-1DA225D810C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777B9-346B-4D29-B86E-AF1E9F0332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CCB34-E7DD-463D-AAAD-BD07C0E006B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368F2-50F5-4892-AF95-09DFB2E05E6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8089F-92EE-4CCA-84D4-B9E5FDBA869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6B16C-3C8F-4547-898B-B25D679E0D4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A63A1-973A-4F54-BAE6-BEDEC2D4DB4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64F47-988A-486A-9296-539A6D89896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33D17-0CC4-4141-B441-09F1DD1B830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37E36-5EA2-4156-9507-C77E20D34FE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E6625-24D0-4413-91CD-2360DC319B5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9B35B-BE23-4B11-A613-BF8279341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42462-594E-46B5-AA40-3AE44B3E89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F7DF1-AED4-4562-8609-5F0C5530EF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D9E4B-6D5F-40FC-BAD6-2BA6E9AA0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24229-392C-470E-94C7-3B77524C3E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12D70-249C-4DE7-888D-03E8E45B92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A448F-67A9-4917-AAAC-6214D3B8886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7ECF0-326C-4858-B3A0-AE8F90C715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80036-2ADF-4C3A-93AF-6CE647D300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3E09C-EB20-43F5-AC6C-522A8B72C5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1295280" y="304920"/>
            <a:ext cx="784872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Faculty of Medical Sciences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hysical medicine and rehabil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304920" y="2895480"/>
            <a:ext cx="86104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The third modu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ninth un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898989"/>
                </a:solidFill>
                <a:latin typeface="Calibri"/>
              </a:rPr>
              <a:t>REHABILITATION OF PATIENTS WITH THE LESION OF PERIPHERAL MOTOR NEU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c. Dr. Igor Sima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76320" y="227160"/>
            <a:ext cx="1441440" cy="198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Facial nerve le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lnSpc>
                <a:spcPct val="8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The nervus facialis is the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VII cranial nerve which provides motor innervation of the mimic musculature and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parasympatetic innervation of the lacrimal, submandibular and sublingual glands, while providing gustative perception from the anterior two-thirds of tongue.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Its motor nucleus is located in the pons and on its exit from the brainstem it passes through the pontocerebellar angle, enters the bone canal (canalis nervi facialis-Fallopian canal) in the petrous bone and exits through the stylomastoid foramen under the ear, after which it branches and innervates the facial muscles (mimic musculature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Facial nerve le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533520" y="2209680"/>
            <a:ext cx="7924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The facial nerve lesions, regardless of the level, starting from the motor cells located in the motor nucleus in the pons to its ending branches, lead to peripheral facial pals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“peripheral facialis”, “prosopoplegia”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Bell's facial pal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457200" y="1828800"/>
            <a:ext cx="8381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often caus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Cold 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Special sensitivity to coolin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exposure of the face to the col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, “draught” near the open window of a car or train, wind blowin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Which leads to the sudden asymptomatic palsy of the mimic musculature on one side of the face and is call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BELL'S FACIAL PALSY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“paralysis a frigore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457200" y="277920"/>
            <a:ext cx="8229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nical pi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755640" y="993600"/>
            <a:ext cx="80773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asic criteria for diagnosing Bell's facial palsy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are as foll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udden beginning of one-sided paresys or palsy of the facial mus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Lack of signs of the CNS dam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Abscence of the middle ear diseas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or the posterior cranial fossa disease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otorhinolaryngologist and neurologi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spection reveals the follow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Facial assymetr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as a result of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palsy of one half of the facial mimic muscl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Half of the forehead is without wrinkl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eyebrow is lower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nasolabial fold is fla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at side of the mouth droop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1476360" y="1916280"/>
            <a:ext cx="70102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Medicamentous thera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rsing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Physical thera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Surg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8920" indent="-530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"/>
          <p:cNvSpPr/>
          <p:nvPr/>
        </p:nvSpPr>
        <p:spPr>
          <a:xfrm>
            <a:off x="457200" y="27792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33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457200" y="277920"/>
            <a:ext cx="8229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4540320" cy="33782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2"/>
          <a:stretch/>
        </p:blipFill>
        <p:spPr>
          <a:xfrm>
            <a:off x="4908600" y="2660760"/>
            <a:ext cx="4235400" cy="31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1"/>
          <p:cNvSpPr/>
          <p:nvPr/>
        </p:nvSpPr>
        <p:spPr>
          <a:xfrm>
            <a:off x="457200" y="277920"/>
            <a:ext cx="8229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4908600" y="2433600"/>
            <a:ext cx="4006800" cy="29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457200" y="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Peripheral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– nerve le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0" y="609480"/>
            <a:ext cx="9144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Upper extrem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Axillary nerve inju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Laesio nervi axillaris) leads t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palsy or paresis of the m. deltoideus, which is clinically manifested by inability to elevate the ar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raise) above the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should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Musculocutaneous nerve injury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Laesio nervi musculo-cutanei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eads t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palsy or paresis of the m.bicep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rachii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which is clinically manifested by inability t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flex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be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and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supin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rotate face-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the lower ar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adial nerve inju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aesio nervi radialis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leads t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palsy or paresis of the m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extens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initiates extens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of the lower-arm, hand and fing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which is clinically manifested by inability t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exte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straighte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the lower-arm, hand and fingers and gives a clinical picture o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"wrist drop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dianus nerve inju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Laesio nervi median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leads t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palsy or paresis of the m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flex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initiate bend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of the hand and first three fingers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which is clinically manifested by inability to flex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be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the hand and the first three fing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gives a clinical picture of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sr-CS" sz="2000" spc="-1" strike="noStrike">
                <a:solidFill>
                  <a:srgbClr val="000000"/>
                </a:solidFill>
                <a:latin typeface="Calibri"/>
              </a:rPr>
              <a:t>Benediction sign deformity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lnar nerve inju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Laesio nervi ulnar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leads t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palsy or paresis of the small muscles of the hand and flexors of the ring and little finger, which is clinically manifested by inability t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flex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bend) the ring and little finger, and weak finger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abduction and adduc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gives a clinical picture of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"claw hand</a:t>
            </a:r>
            <a:r>
              <a:rPr b="1" i="1" lang="sr-CS" sz="2000" spc="-1" strike="noStrike">
                <a:solidFill>
                  <a:srgbClr val="000000"/>
                </a:solidFill>
                <a:latin typeface="Calibri"/>
              </a:rPr>
              <a:t> deformity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457200" y="2746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ower extrem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e peroneal nerve injur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CS" sz="2200" spc="-1" strike="noStrike">
                <a:solidFill>
                  <a:srgbClr val="000000"/>
                </a:solidFill>
                <a:latin typeface="Calibri"/>
              </a:rPr>
              <a:t>Laesio nervi peronealis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ads to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palsy or paresis of the muscle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ich provide dorsal flexion of the foot and toes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which is clinically manifested by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the loss of dorsal flex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bending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of the foot and toes and inability to do heel-walk on the affected foot, and gives a clinical picture of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sr-CS" sz="2200" spc="-1" strike="noStrike">
                <a:solidFill>
                  <a:srgbClr val="000000"/>
                </a:solidFill>
                <a:latin typeface="Calibri"/>
              </a:rPr>
              <a:t>drop foot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The patient is unable to hold the foot up, and thus raises the thigh up while walking to decrease the risk of tripping, and the toes hit the ground first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("cock-walk  gait"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The posterior tibial nerve injur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CS" sz="2200" spc="-1" strike="noStrike">
                <a:solidFill>
                  <a:srgbClr val="000000"/>
                </a:solidFill>
                <a:latin typeface="Calibri"/>
              </a:rPr>
              <a:t>Laeio nervi tibialis posterior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leads to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palsy or paresis of the muscle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ich provide plantar flexion of the foot and toes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which is clinically manifested by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the lack of plantar flexion of the foot and toes and inability to do toe-walk on the affected foo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 During a stance phase of the affected leg, the limb support is on the heel first and then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comes the toe-dro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leaving the foot flat on the ground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("steppage </a:t>
            </a:r>
            <a:r>
              <a:rPr b="1" i="1" lang="sr-CS" sz="2200" spc="-1" strike="noStrike">
                <a:solidFill>
                  <a:srgbClr val="000000"/>
                </a:solidFill>
                <a:latin typeface="Calibri"/>
              </a:rPr>
              <a:t>gait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ANATOMOPHYSI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The peripheral nervous system conducts the stimuli from the periphery to the central nervous system and vice vers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The peripheral nervous system involv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Skeletomotor nerve cel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еfferent fib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Sensory nerve cel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аfferent cel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Vegetative nerve cel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of the sympaticus and parasympati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GENERAL PRINCIPLES OF PHYSICAL THERAPY FOR PERIPHERAL NERVE PAL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08120" indent="-708120" algn="just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708120"/>
                <a:tab algn="l" pos="1165320"/>
                <a:tab algn="l" pos="1622520"/>
                <a:tab algn="l" pos="2079720"/>
                <a:tab algn="l" pos="2536920"/>
                <a:tab algn="l" pos="2994120"/>
                <a:tab algn="l" pos="3451320"/>
                <a:tab algn="l" pos="3908520"/>
                <a:tab algn="l" pos="4365720"/>
                <a:tab algn="l" pos="4822920"/>
                <a:tab algn="l" pos="5280120"/>
                <a:tab algn="l" pos="5737320"/>
                <a:tab algn="l" pos="6194520"/>
                <a:tab algn="l" pos="6651720"/>
                <a:tab algn="l" pos="7108920"/>
                <a:tab algn="l" pos="7566120"/>
                <a:tab algn="l" pos="8023320"/>
                <a:tab algn="l" pos="8480520"/>
                <a:tab algn="l" pos="8937720"/>
                <a:tab algn="l" pos="9394920"/>
                <a:tab algn="l" pos="98521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Unlike the central motor neurons, the peripheral nerves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are capable of regener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08120" indent="-7081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08120"/>
                <a:tab algn="l" pos="1165320"/>
                <a:tab algn="l" pos="1622520"/>
                <a:tab algn="l" pos="2079720"/>
                <a:tab algn="l" pos="2536920"/>
                <a:tab algn="l" pos="2994120"/>
                <a:tab algn="l" pos="3451320"/>
                <a:tab algn="l" pos="3908520"/>
                <a:tab algn="l" pos="4365720"/>
                <a:tab algn="l" pos="4822920"/>
                <a:tab algn="l" pos="5280120"/>
                <a:tab algn="l" pos="5737320"/>
                <a:tab algn="l" pos="6194520"/>
                <a:tab algn="l" pos="6651720"/>
                <a:tab algn="l" pos="7108920"/>
                <a:tab algn="l" pos="7566120"/>
                <a:tab algn="l" pos="8023320"/>
                <a:tab algn="l" pos="8480520"/>
                <a:tab algn="l" pos="8937720"/>
                <a:tab algn="l" pos="9394920"/>
                <a:tab algn="l" pos="98521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enabling thus the functional recove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hich c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ake various amounts of ti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depending on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3800" indent="-606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08120"/>
                <a:tab algn="l" pos="1165320"/>
                <a:tab algn="l" pos="1622520"/>
                <a:tab algn="l" pos="2079720"/>
                <a:tab algn="l" pos="2536920"/>
                <a:tab algn="l" pos="2994120"/>
                <a:tab algn="l" pos="3451320"/>
                <a:tab algn="l" pos="3908520"/>
                <a:tab algn="l" pos="4365720"/>
                <a:tab algn="l" pos="4822920"/>
                <a:tab algn="l" pos="5280120"/>
                <a:tab algn="l" pos="5737320"/>
                <a:tab algn="l" pos="6194520"/>
                <a:tab algn="l" pos="6651720"/>
                <a:tab algn="l" pos="7108920"/>
                <a:tab algn="l" pos="7566120"/>
                <a:tab algn="l" pos="8023320"/>
                <a:tab algn="l" pos="8480520"/>
                <a:tab algn="l" pos="8937720"/>
                <a:tab algn="l" pos="9394920"/>
                <a:tab algn="l" pos="985212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level of lesion and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3800" indent="-606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08120"/>
                <a:tab algn="l" pos="1165320"/>
                <a:tab algn="l" pos="1622520"/>
                <a:tab algn="l" pos="2079720"/>
                <a:tab algn="l" pos="2536920"/>
                <a:tab algn="l" pos="2994120"/>
                <a:tab algn="l" pos="3451320"/>
                <a:tab algn="l" pos="3908520"/>
                <a:tab algn="l" pos="4365720"/>
                <a:tab algn="l" pos="4822920"/>
                <a:tab algn="l" pos="5280120"/>
                <a:tab algn="l" pos="5737320"/>
                <a:tab algn="l" pos="6194520"/>
                <a:tab algn="l" pos="6651720"/>
                <a:tab algn="l" pos="7108920"/>
                <a:tab algn="l" pos="7566120"/>
                <a:tab algn="l" pos="8023320"/>
                <a:tab algn="l" pos="8480520"/>
                <a:tab algn="l" pos="8937720"/>
                <a:tab algn="l" pos="9394920"/>
                <a:tab algn="l" pos="985212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Degree of damage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3800" indent="-606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08120"/>
                <a:tab algn="l" pos="1165320"/>
                <a:tab algn="l" pos="1622520"/>
                <a:tab algn="l" pos="2079720"/>
                <a:tab algn="l" pos="2536920"/>
                <a:tab algn="l" pos="2994120"/>
                <a:tab algn="l" pos="3451320"/>
                <a:tab algn="l" pos="3908520"/>
                <a:tab algn="l" pos="4365720"/>
                <a:tab algn="l" pos="4822920"/>
                <a:tab algn="l" pos="5280120"/>
                <a:tab algn="l" pos="5737320"/>
                <a:tab algn="l" pos="6194520"/>
                <a:tab algn="l" pos="6651720"/>
                <a:tab algn="l" pos="7108920"/>
                <a:tab algn="l" pos="7566120"/>
                <a:tab algn="l" pos="8023320"/>
                <a:tab algn="l" pos="8480520"/>
                <a:tab algn="l" pos="8937720"/>
                <a:tab algn="l" pos="9394920"/>
                <a:tab algn="l" pos="98521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timely and adequate medicamentous and physical treatment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0" y="277920"/>
            <a:ext cx="91440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Physical therapy  – tasks and ai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To provide optimal conditions for the tissue regeneration and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Maintain the effectors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(muscles) until the nerve regeneration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For the purpose of achieving maximum possible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function recovery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rse of recove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1219320" y="1905120"/>
            <a:ext cx="7467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521000" indent="-60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romanUcPeriod"/>
              <a:tabLst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207800"/>
                <a:tab algn="l" pos="106650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stage of movement disorder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(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paralysi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1000" indent="-60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romanUcPeriod"/>
              <a:tabLst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207800"/>
                <a:tab algn="l" pos="106650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stage of recovery of the damaged nerve functio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(paresys)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1000" indent="-60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romanUcPeriod"/>
              <a:tabLst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207800"/>
                <a:tab algn="l" pos="106650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stage of permanent sequels of palsy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Physical treat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02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30280"/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Is a very important component in the process of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restoring functioning of the patients with peripheral motor neuron diseas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02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30280"/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The treatment of PMN lesions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includes almost all physical procedures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, but the following trias is most important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68640" indent="-339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alibri"/>
              <a:buAutoNum type="arabicPeriod"/>
              <a:tabLst>
                <a:tab algn="l" pos="530280"/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cc6600"/>
                </a:solidFill>
                <a:latin typeface="Calibri"/>
                <a:ea typeface="Microsoft YaHei"/>
              </a:rPr>
              <a:t>Therm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68640" indent="-339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alibri"/>
              <a:buAutoNum type="arabicPeriod"/>
              <a:tabLst>
                <a:tab algn="l" pos="530280"/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cc6600"/>
                </a:solidFill>
                <a:latin typeface="Calibri"/>
                <a:ea typeface="Microsoft YaHei"/>
              </a:rPr>
              <a:t>Electr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68640" indent="-339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alibri"/>
              <a:buAutoNum type="arabicPeriod"/>
              <a:tabLst>
                <a:tab algn="l" pos="530280"/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cc6600"/>
                </a:solidFill>
                <a:latin typeface="Calibri"/>
                <a:ea typeface="Microsoft YaHei"/>
              </a:rPr>
              <a:t>Kinesitherapy</a:t>
            </a:r>
            <a:r>
              <a:rPr b="1" lang="sr-Latn-CS" sz="2800" spc="-1" strike="noStrike">
                <a:solidFill>
                  <a:srgbClr val="cc6600"/>
                </a:solidFill>
                <a:latin typeface="Calibri"/>
                <a:ea typeface="Microsoft YaHei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alibri"/>
                <a:ea typeface="Microsoft YaHe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Verdana"/>
              </a:rPr>
              <a:t>Longitudinal galvanization along the nerve projection and ЕS with exponential current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2324160" y="2178000"/>
            <a:ext cx="4495680" cy="33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Technique of electrostimu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696960" y="2529000"/>
            <a:ext cx="3558960" cy="2668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2"/>
          <a:stretch/>
        </p:blipFill>
        <p:spPr>
          <a:xfrm>
            <a:off x="4876920" y="2590920"/>
            <a:ext cx="3429000" cy="25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Е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bipolar and monopolar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4800600" y="2362320"/>
            <a:ext cx="3862440" cy="289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Parameters for electrostimu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228600" y="1447920"/>
            <a:ext cx="87631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arameters for electrostimulation are determined according to Manual Muscle Testing Grading System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 approximate impulse and pause duration 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depending on the grade of peripheral pal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evere dysfunction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---------( 500-100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/ 2000 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oderate dysfunction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----( 250-50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/ 100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ild dysfunction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------------( 50-125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/ 250-50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Normal muscle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---------------( 0,1- 3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/ 2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Е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2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type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 500/2000,  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grade from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 0-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Е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1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type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 250/500,   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grade from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 2+ -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Kinesitherap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according to MM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2514600" y="2209680"/>
            <a:ext cx="61722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Pass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“0”, “1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e assisted(“2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“3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e resisted (“4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1066680" y="15228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ETIOLOGY OF THE PMN DAM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just">
              <a:lnSpc>
                <a:spcPct val="10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Infec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virus herpes zoster, virus hepatita, polyo virus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etc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just">
              <a:lnSpc>
                <a:spcPct val="10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Intoxic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alcoho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carbon-monoxide, parathion, carbon-disulfid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heavy metal poisoning, botulism, toxin dyphteria, drug poisoning etc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just">
              <a:lnSpc>
                <a:spcPct val="10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etabolic disorder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uremia, porphyria, amyloidosis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beriberi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alcoholism, hyper and hypothyreoidism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etc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just">
              <a:lnSpc>
                <a:spcPct val="10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Tumo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benign and malignant tumor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just">
              <a:lnSpc>
                <a:spcPct val="10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Compress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discus herni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spondylophytes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and osteophyt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traumatic compress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just">
              <a:lnSpc>
                <a:spcPct val="10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Section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traumatic section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with a sharp knife or sharp bone fragment in a bone fractur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Hydrokinesithera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Favourable effect of exercising in water is mainly based on the following princip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cording to Archimedes’ principle,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object immersed in a fluid experiences an apparent weight loss equal to the weight of the fluid displaced, and also a decreased impact of gravity, which helps muscles, whose strength is insufficient for performing land movements, to easily perform exercises in water. water temperature reduces muscle spasm and improves circulatio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uscle weakness, greater efficacy in exercise has a beneficial psychological effec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672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Dosed training load</a:t>
            </a: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Progressive increase and decrease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ascending and descending</a:t>
            </a: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crescendo and decrescen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533520" y="1828800"/>
            <a:ext cx="85341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Oxford exercise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repetitive maximums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are determined once a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Then 3 series of 10 contractions 5 times a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contractions with max. l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contractions with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2/3 ma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1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contractions with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½ ma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De-Lorme method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Progressive resistance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 exercis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sr-Latn-CS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repetitive maximums are determined once  a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Then 3 series of 10 contractions 5 times a wee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contractions with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½ ma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contractions with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2/3 ma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10 contractions with max. l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Sensory reedu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0" y="1295280"/>
            <a:ext cx="8915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 the palsy of the peripheral nerves which have abundant sensory innervation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uch as the lesion of the N. medianus, due to axonal disruption, which is almost inevitable occurrence in the lesion of the N. medianus, such as a neurotmesis injury, there occurs wrong reinnervation of the receptors, which is accompanied b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stereogno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(inability to identify the shape, size, weight and type of the material which is placed in the patient's hand, in the absence of visual stimuli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Stereognosis train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volves manual exploration of different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shapes, sizes, weights and textures of the obj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th the first three fingers of the corresponding hand (the skin of other fingers is protected with a glove) without using one's visual skill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ORTHO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Prevent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swelling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Contractures and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Overstretching of the paralyzed mus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Reduces 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457200" y="0"/>
            <a:ext cx="82296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RECOVERY S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87480" indent="-530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Therm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Electr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Galvanic current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Hydrogalvanic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(hydroelectric) baths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Drug electrophoresi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Vasodilato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, </a:t>
            </a:r>
            <a:r>
              <a:rPr b="1" i="1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Аnalges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Bernard'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(DDC)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current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Exponential current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IF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Hydr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Laser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Magnet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Ultrasound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Manual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Kinesi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analgetic proced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"/>
          <p:cNvSpPr/>
          <p:nvPr/>
        </p:nvSpPr>
        <p:spPr>
          <a:xfrm>
            <a:off x="457200" y="1600200"/>
            <a:ext cx="83059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Anode galv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Electroforesis of Novoc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DD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duc's current "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Ultra-Reiz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" or Ultrastimulation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currents (by Trabert)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I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LEVELS OF DAMA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LESION LOC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1752480" y="2666880"/>
            <a:ext cx="67820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Segmenta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– radicular le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Periphera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– nerve le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GRADAT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DEGREE OF NERVE DA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Neuropraxi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nerve contu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is a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transitor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isorder of the nerve function caused by effect of trau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Axonotmes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axon disrup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is a pathoanatomical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injury of the axons and their myelin sheath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hereby Schwann's sheaths are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tubu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mainly undisturbed, which is the reason for considering axonotmesi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 nerve lesion “in continuity“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Neurotmesi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is 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complete nerve disruptio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most severe form of an injury, whereby its distal segment is subject to Wallerian degenerat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457200" y="94284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DIAGNOSING THE LESIONS OF THE PERIPHERAL NER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1258920" y="2205000"/>
            <a:ext cx="647712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>
              <a:lnSpc>
                <a:spcPct val="70000"/>
              </a:lnSpc>
              <a:spcBef>
                <a:spcPts val="700"/>
              </a:spcBef>
              <a:spcAft>
                <a:spcPts val="1199"/>
              </a:spcAft>
              <a:buClr>
                <a:srgbClr val="80008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X-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70000"/>
              </a:lnSpc>
              <a:spcBef>
                <a:spcPts val="700"/>
              </a:spcBef>
              <a:spcAft>
                <a:spcPts val="1199"/>
              </a:spcAft>
              <a:buClr>
                <a:srgbClr val="80008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C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computerized tomography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70000"/>
              </a:lnSpc>
              <a:spcBef>
                <a:spcPts val="700"/>
              </a:spcBef>
              <a:spcAft>
                <a:spcPts val="1199"/>
              </a:spcAft>
              <a:buClr>
                <a:srgbClr val="80008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NMR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nuclear magnetic resonance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70000"/>
              </a:lnSpc>
              <a:spcBef>
                <a:spcPts val="700"/>
              </a:spcBef>
              <a:spcAft>
                <a:spcPts val="1199"/>
              </a:spcAft>
              <a:buClr>
                <a:srgbClr val="80008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MYELOGRAPH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70000"/>
              </a:lnSpc>
              <a:spcBef>
                <a:spcPts val="700"/>
              </a:spcBef>
              <a:spcAft>
                <a:spcPts val="1199"/>
              </a:spcAft>
              <a:buClr>
                <a:srgbClr val="80008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ELECTROMYOGRAPH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70000"/>
              </a:lnSpc>
              <a:spcBef>
                <a:spcPts val="700"/>
              </a:spcBef>
              <a:spcAft>
                <a:spcPts val="1199"/>
              </a:spcAft>
              <a:buClr>
                <a:srgbClr val="80008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LABORATO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Clinical examination of the motor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2286000" y="2286000"/>
            <a:ext cx="5486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Insp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T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Streng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Reflex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Coordin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" descr=""/>
          <p:cNvPicPr/>
          <p:nvPr/>
        </p:nvPicPr>
        <p:blipFill>
          <a:blip r:embed="rId1"/>
          <a:srcRect l="0" t="0" r="22589" b="0"/>
          <a:stretch/>
        </p:blipFill>
        <p:spPr>
          <a:xfrm>
            <a:off x="4038480" y="1752480"/>
            <a:ext cx="1828800" cy="313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457200" y="277920"/>
            <a:ext cx="815328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anual muscle test (MMT) for evaluation of muscle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grade "5"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(100% of muscle strength or func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grade "4"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(75% of muscle strength or func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grade “3"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(50% of muscle strength or func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grade "2"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(25% of muscle strength or func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grade "1"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(10% of muscle strength or func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grade "0"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(0% of muscle strength or func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Grade "5"   - maintained muscle fun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Grade 1, 2, 3, 4   - paresys or partial muscle strength or fun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Grade "0" -  paralysis or complete loss of muscle fun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6:35:23Z</dcterms:created>
  <dc:creator>Mark Ricard</dc:creator>
  <dc:description/>
  <dc:language>en-US</dc:language>
  <cp:lastModifiedBy>Nada Miklja</cp:lastModifiedBy>
  <dcterms:modified xsi:type="dcterms:W3CDTF">2023-09-27T08:32:24Z</dcterms:modified>
  <cp:revision>44</cp:revision>
  <dc:subject/>
  <dc:title>Introduction To Manual Muscle Testing</dc:title>
</cp:coreProperties>
</file>